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3456-42F6-43D6-AA76-21F91C0CE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3D24-3F8B-43EF-B4F6-A5E9580D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D865-7E79-43D3-BC35-6EF71B606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5FA5-6F86-49CA-AF5D-7672DC3B9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0CA3-1CFC-452A-930C-6FA9A8B7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5A90-2B9F-44E5-BC41-CF94D295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878A-757F-46CE-9865-99260805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AE41-617F-4288-9A9A-32A2B7EC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2C8C-AFFF-41C5-A336-0ABEAD89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287B-BE73-4C22-81DE-9D372B1F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C95D-C5BE-4C17-AD36-EC172BB5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8B09-0632-4254-9BEE-B5C516B8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9981-690A-42E3-9059-65AC47FB8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ts from Task Force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, 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11-1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4725720" cy="63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726080" cy="63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33720" y="152280"/>
            <a:ext cx="4725720" cy="63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4726080" cy="63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4726080" cy="63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4726080" cy="63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4726080" cy="63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726080" cy="63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4726080" cy="63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4726080" cy="63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0" t="0" r="9000" b="0"/>
          <a:stretch/>
        </p:blipFill>
        <p:spPr>
          <a:xfrm>
            <a:off x="990720" y="2362320"/>
            <a:ext cx="3674880" cy="3028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4725720" cy="63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4726080" cy="63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81080" y="304920"/>
            <a:ext cx="4726080" cy="63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0" y="457200"/>
            <a:ext cx="4653000" cy="62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4725720" cy="63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33720" y="304920"/>
            <a:ext cx="4725720" cy="63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4726080" cy="63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20:03:25Z</dcterms:created>
  <dc:creator>Cory</dc:creator>
  <dc:description/>
  <dc:language>en-US</dc:language>
  <cp:lastModifiedBy>Cory</cp:lastModifiedBy>
  <dcterms:modified xsi:type="dcterms:W3CDTF">2010-06-08T16:15:48Z</dcterms:modified>
  <cp:revision>3</cp:revision>
  <dc:subject/>
  <dc:title>Charts from Task Force Meeting</dc:title>
</cp:coreProperties>
</file>